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1CD-788E-40D2-9EDB-8F4540F7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967-7AA5-4DBE-B782-A3E4DE8C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AAE-2C4C-40A0-8FDA-E4CBA90D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487-6A9C-4642-907B-F14AD9A6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F00-8E05-4349-B5E0-5AD29177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376-A1C9-46B1-B9C0-D0966BCF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9F8F-2A7F-4C6A-BAA1-84E11586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E55-E642-43A9-B40B-F1669592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3466-2FAD-462A-B94F-060221E3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1A8-395D-4639-B1BA-8639A505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59CC-7E8C-41B1-A94B-E83B8092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413-D805-4CF8-BE30-71D92597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A139-D3E5-400D-B800-B48FE125E3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50920" y="0"/>
            <a:ext cx="8280360" cy="65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йны пищи ХХI век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6300605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S6300608"/>
          <p:cNvPicPr/>
          <p:nvPr/>
        </p:nvPicPr>
        <p:blipFill>
          <a:blip r:embed="rId2"/>
          <a:stretch/>
        </p:blipFill>
        <p:spPr>
          <a:xfrm>
            <a:off x="0" y="3141720"/>
            <a:ext cx="6226200" cy="3716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3641400" y="-108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Монеты до обработки  «Кока – колой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1621440" y="619164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Монеты после обработ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0" y="169560"/>
            <a:ext cx="9144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ff"/>
                </a:solidFill>
                <a:latin typeface="Times New Roman"/>
              </a:rPr>
              <a:t>Ситуация с ГМО  в мир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Первые трансгенные продукты были разработаны американской бывшей военной компанией Монсанто в конце 80-х годов. С 1996г. общая площадь посевных площадей под трансгенными культурами выросла в 50 раз и в 2005 г. составила 90 млн. га (17% от общей площади). Наибольшее количество посевных площадей засеяно в США, Канаде, Бразилии, Аргентине и Китае. При этом 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                             96% всех посевных площадей  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                    принадлежит США. В мире 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допущено к производству более 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100 линий генетически 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модифицированных растени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P5203043"/>
          <p:cNvPicPr/>
          <p:nvPr/>
        </p:nvPicPr>
        <p:blipFill>
          <a:blip r:embed="rId1"/>
          <a:stretch/>
        </p:blipFill>
        <p:spPr>
          <a:xfrm>
            <a:off x="324000" y="3776760"/>
            <a:ext cx="280800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P5203034"/>
          <p:cNvPicPr/>
          <p:nvPr/>
        </p:nvPicPr>
        <p:blipFill>
          <a:blip r:embed="rId1"/>
          <a:stretch/>
        </p:blipFill>
        <p:spPr>
          <a:xfrm>
            <a:off x="4716360" y="3878280"/>
            <a:ext cx="4427640" cy="2979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0" y="217440"/>
            <a:ext cx="91440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ff"/>
                </a:solidFill>
                <a:latin typeface="Times New Roman"/>
              </a:rPr>
              <a:t>Как обстоят дела с ГМО  в России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а Российском рынке ГМ-продукция появилась в 90-е годы. В настоящее время в России разрешенными являются 16 сортов ГМ-культур (6 сортов кукурузы, 3 сорта сои, 3 сорта картофеля, 2 сорта риса, 2 сорта свеклы) и 5 видов микроорганизмов. Вроде бы разрешенных сортов немного, но добавляются они во многие продукты.  ГМ-компоненты встречаются и в хлебобулочных изделиях,  и в мясных, и в молочных продуктах. Много их и в                                                  детском питании, особенно  для самых маленьких.                                                           Наиболее распространенной                                                  добавкой является ГМ-соя,                                                  устойчивая к гербициду                                                                  раундапу  (линия 40.3.2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539640" y="260280"/>
            <a:ext cx="1695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воды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6894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46688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опросы 2(в), 4(а), 7(б), 8(в), 9(б) показали наибольшее единодушие опрашиваемых. В настоящее время прослеживается безразличное отношение к своему здоровью у большей части учащихся; в то же время учителя школы уделяют внимание здоровью, но употребляют данные продукты только в случаях крайней необходимости (например, в дороге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5012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Развитие экологически чистой и безопасной продукции должно стать приоритетным направлением для России, важным для сохранения  здоровья населения нашей страны, природы и жизни на планет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263556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рименение новейших технологий без ясного понимания последствий их действия может привести к самым трагическим последствиям. Масштабное распространение трансгенных организмов и постепенное внедрение чужеродного генетического материала в клетки растений, животных и человека может привести к возникновению необратимых патологических изменений в организмах живых существ и к их вымиранию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0" y="-115200"/>
            <a:ext cx="9144000" cy="69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опросы анкет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Уважаемые учащиеся и учителя! Вам предлагаются вопросы о продуктах питания, убедительная просьба ответить на них и подойти объективно к своим ответам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Times New Roman"/>
              </a:rPr>
              <a:t>1. Что Вы знаете о продуктах, содержащих добавки с индексом «Е»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Times New Roman"/>
              </a:rPr>
              <a:t>а) ничег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Times New Roman"/>
              </a:rPr>
              <a:t>б) изучал(а) в школьном курс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Times New Roman"/>
              </a:rPr>
              <a:t>в) кое – что слышал(а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Times New Roman"/>
              </a:rPr>
              <a:t>2. Обращаете ли Вы внимание на индекс «Е» при покупке продуктов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Times New Roman"/>
              </a:rPr>
              <a:t>а) 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Times New Roman"/>
              </a:rPr>
              <a:t>б) иног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Times New Roman"/>
              </a:rPr>
              <a:t>в) никог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Times New Roman"/>
              </a:rPr>
              <a:t>3. Что Вы знаете о ГМП (генетически модифицированных продуктах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Times New Roman"/>
              </a:rPr>
              <a:t>а) ничег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Times New Roman"/>
              </a:rPr>
              <a:t>б) знаю из различных источников (телевидение, радио, газеты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Times New Roman"/>
              </a:rPr>
              <a:t>в) знаний немного, но меня интересует этот вопро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243936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5. Какие напитки Вы предпочитаете больше всего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) газированные («Кока – Кола», «Фанта», «Спрайт», «Фиеста» и др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б) минеральную воду, чай, коф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) натуральные с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6. Обращаете ли Вы внимание на цвет любимых напитков, не настораживают они Вас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) 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б) н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) мне не важно, нравится, как переливается на солнц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333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4. Ваше отношение к ГМП (генетически модифицированным продуктам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) безразличн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б) отрицательн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) положительн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7. Что Вы знаете о вреде газированных напитков («Кока – Кола», «Фанта», «Миринда» и др.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) ничег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б) знаю, но не обращаю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) иное (свое мнение)__________________________________________________________________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8. Часто ли Вы употребляете продукты быстрого приготовления («Доширак», «Хот – Дог», чебуреки и др.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) 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б) иногда (когда родители на вахте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) иногда (свои причины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9. Любите ли Вы сою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) 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б) н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) предпочитаю животное мяс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0. Какие продукты Вы хотели бы видеть в школьной столовой и буфете? ___________________________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0" y="81936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Цель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исследовать проблему здорового пит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Задачи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. Изучить литературные источники о здоровой пище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. Выявить основные пищевые добавки, оказывающие отрицательное воздействие на организм человек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3. Выявить наиболее популярные продукты среди молодеж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40212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 одним гамбургером Биг Мак человек получает 90% предельно допустимой суточной нормы диоксина. Корейские диетологи утверждают, что 50% вредных веществ поступают в организм человека с продуктами «быстрой еды». И неудивительно: ведь акриламид образуется при жарке, при готовке во фритюре или при нагревании в духовке богатой углеродами пищи. Особенно много акриламида содержится в картофеле фри и чипсах – 16- 48 микрограммов в порции. В тостах акриламида содержится  -9,8 микрограмма, в мягком хлебе – 2, в кукурузных хлопьях -7,3, в кексах и пирожных – 6, в кофе – 2. От лишнего веса страдают 65% американцев. На лечение вызванных ожирением заболеваний в США ежегодно расходуется около 20 миллиардов долларо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a1fa103c74309742120b2bb77250cec4_too-many-happy-meal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Для увеличения нажми на меня!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5203018"/>
          <p:cNvPicPr/>
          <p:nvPr/>
        </p:nvPicPr>
        <p:blipFill>
          <a:blip r:embed="rId1"/>
          <a:stretch/>
        </p:blipFill>
        <p:spPr>
          <a:xfrm>
            <a:off x="5688000" y="0"/>
            <a:ext cx="3456000" cy="4105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0" y="136080"/>
            <a:ext cx="91440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Знай чем утолить жажду…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После такого «вкусного» обед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необходимо это чем – нибудь запить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Стоп! Вы когда-нибудь задумывалис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над тем, что мы пьем? Судьба братц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Иванушки ничему не научила? Скоре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всего, нет. Попробуем разобраться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Итак, безалкогольный газированны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напиток, в том числе и «Кока – Кола»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Прежде всего, вспомним забыты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</a:rPr>
              <a:t>навыки чтения мелкого шрифта и обратим внимание на бутылку. Российский закон «О защите прав потребителя» требует, чтобы на этикетке любого продукта был написан его состав. Читаем: специально подготовленная вода, двуокись углерода Е-290, регулятор кислотности Е-330, подсластитель Е-951, консервант Е-211, краситель, ароматизатор.</a:t>
            </a:r>
            <a:br>
              <a:rPr sz="2400"/>
            </a:b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5203042"/>
          <p:cNvPicPr/>
          <p:nvPr/>
        </p:nvPicPr>
        <p:blipFill>
          <a:blip r:embed="rId1"/>
          <a:stretch/>
        </p:blipFill>
        <p:spPr>
          <a:xfrm>
            <a:off x="0" y="3716280"/>
            <a:ext cx="3780000" cy="3141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0" y="-171000"/>
            <a:ext cx="914400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Подсластител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дсластитель Е-951 – аспартам (Nutrasweet, Equal, Spoonful). Аспартам - генетически модифицированный нейротоксин, применяется как искусственный заменитель сахара. Аспартам примерно в 200 раз слаще сахара, но по сравнению с ним не содержит углеводов и калорий. При нагревании до +30 С аспартам распадается с образованием канцерогена формальдегида и высокотоксичного метанола. Проглоченный метанол (метиловый или древесный спирт, убивший или ослепивший тысячи любителей алкоголя)                                                                         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реобразуется в формальдегид, затем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 муравьиную кислоту (яд красных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уравьев). Формальдегид по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лассификации относится к той же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группе веществ, что и мышьяк с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инильной кислотой - смертельные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яды! Аспартам не утоляет жажду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P5203017"/>
          <p:cNvPicPr/>
          <p:nvPr/>
        </p:nvPicPr>
        <p:blipFill>
          <a:blip r:embed="rId1"/>
          <a:stretch/>
        </p:blipFill>
        <p:spPr>
          <a:xfrm>
            <a:off x="0" y="3400560"/>
            <a:ext cx="2881440" cy="3457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291960"/>
            <a:ext cx="91440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Красител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Красители в напитках используют исключительно в психологических целях. Например, удовлетворяется желание покупателя приобрести напиток со вкусом апельсина не прозрачного, а оранжевого цвета. Красители, используемые в 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 напитках, бывают натуральными и 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искусственными. Наиболее 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распространенным из натуральных 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красителей является сахарный колер 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E-150, то есть жженый сахар, широко 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применяемый для окрашивания 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таких популярных напитков, как 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«Пепси-Кола» и «Кока-Кола».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S6300587"/>
          <p:cNvPicPr/>
          <p:nvPr/>
        </p:nvPicPr>
        <p:blipFill>
          <a:blip r:embed="rId1"/>
          <a:stretch/>
        </p:blipFill>
        <p:spPr>
          <a:xfrm>
            <a:off x="0" y="0"/>
            <a:ext cx="5797440" cy="4105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S6300597"/>
          <p:cNvPicPr/>
          <p:nvPr/>
        </p:nvPicPr>
        <p:blipFill>
          <a:blip r:embed="rId2"/>
          <a:stretch/>
        </p:blipFill>
        <p:spPr>
          <a:xfrm>
            <a:off x="3492360" y="2637000"/>
            <a:ext cx="5651640" cy="4221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687600" y="96840"/>
            <a:ext cx="461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Белок Куринного яйц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обрабатывается «Кока – колой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783960" y="270720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Результат действия «Кока – колы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4:10:28Z</dcterms:created>
  <dc:creator>1Геффель</dc:creator>
  <dc:description/>
  <dc:language>en-US</dc:language>
  <cp:lastModifiedBy>pupil</cp:lastModifiedBy>
  <dcterms:modified xsi:type="dcterms:W3CDTF">2009-02-02T04:49:04Z</dcterms:modified>
  <cp:revision>15</cp:revision>
  <dc:subject/>
  <dc:title>Слайд 1</dc:title>
</cp:coreProperties>
</file>